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F63-F70D-4AEF-B6FC-E050912F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BDE-3BA3-4B2F-989F-1E3F6D4E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D62-C7B6-4E30-9330-E341F311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B06-D66C-4D83-B0FB-265AD6EF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A86-7122-4557-881E-E0E5E672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E86-A173-402C-90D9-500CCBB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7B6-35F8-4533-AF05-BEE89B1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BAF-AE69-40E3-847D-8CDFA019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418-4A56-4FBA-BCC1-58106D4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FF0-B3B1-4023-B9A0-FB526090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BD0-67CB-4928-9E32-AECC6E7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CA5-0D44-4475-BBE2-FED8A38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7653-979D-4C5B-87A3-8D1DCF979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paring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by #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umbers"/>
          <p:cNvPicPr/>
          <p:nvPr/>
        </p:nvPicPr>
        <p:blipFill>
          <a:blip r:embed="rId1"/>
          <a:stretch/>
        </p:blipFill>
        <p:spPr>
          <a:xfrm>
            <a:off x="1600200" y="1673280"/>
            <a:ext cx="62485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7858080" cy="610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30492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AL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ompon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66ff66"/>
                </a:solidFill>
                <a:latin typeface="Arial"/>
              </a:rPr>
              <a:t>24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lang="en-US" sz="16600" spc="-1" strike="noStrike">
                <a:solidFill>
                  <a:srgbClr val="00ccff"/>
                </a:solidFill>
                <a:latin typeface="Arial"/>
              </a:rPr>
              <a:t>192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505320" y="6094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G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ore than a</a:t>
            </a:r>
            <a:br>
              <a:rPr sz="8000"/>
            </a:b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66ff66"/>
                </a:solidFill>
                <a:latin typeface="Arial"/>
              </a:rPr>
              <a:t>GLE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66ff66"/>
                </a:solidFill>
                <a:latin typeface="Arial"/>
              </a:rPr>
              <a:t>a day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138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138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8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ade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My question:</a:t>
            </a: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e bring elementary teachers on board without  creating the feeling we are adding something to a plate alread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verflowing with standards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38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0" lang="en-US" sz="13800" spc="-1" strike="noStrike">
                <a:solidFill>
                  <a:srgbClr val="00ccff"/>
                </a:solidFill>
                <a:latin typeface="Arial"/>
              </a:rPr>
              <a:t>m</a:t>
            </a:r>
            <a:r>
              <a:rPr b="0" lang="en-US" sz="13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13800" spc="-1" strike="noStrike">
                <a:solidFill>
                  <a:srgbClr val="66ff66"/>
                </a:solidFill>
                <a:latin typeface="Arial"/>
              </a:rPr>
              <a:t>e</a:t>
            </a:r>
            <a:r>
              <a:rPr b="0" lang="en-US" sz="13800" spc="-1" strike="noStrike">
                <a:solidFill>
                  <a:srgbClr val="00ccff"/>
                </a:solidFill>
                <a:latin typeface="Arial"/>
              </a:rPr>
              <a:t>r</a:t>
            </a:r>
            <a:r>
              <a:rPr b="0" lang="en-US" sz="13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will I need to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10th Grade Sci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5th Grade Everyth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228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t’s Comp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533520" y="304920"/>
            <a:ext cx="259056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66ff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 Grade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3048120" y="1066680"/>
            <a:ext cx="5257800" cy="5105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495680" y="2362320"/>
            <a:ext cx="266724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AL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838080" y="5943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28600" y="304920"/>
            <a:ext cx="2286000" cy="254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Grade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hart 8" descr=""/>
          <p:cNvPicPr/>
          <p:nvPr/>
        </p:nvPicPr>
        <p:blipFill>
          <a:blip r:embed="rId1"/>
          <a:stretch/>
        </p:blipFill>
        <p:spPr>
          <a:xfrm>
            <a:off x="-23760" y="603360"/>
            <a:ext cx="902160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ff66"/>
                </a:solidFill>
                <a:latin typeface="Arial"/>
              </a:rPr>
              <a:t>5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700" spc="-1" strike="noStrike">
                <a:solidFill>
                  <a:srgbClr val="00ccff"/>
                </a:solidFill>
                <a:latin typeface="Arial"/>
              </a:rPr>
              <a:t>2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6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Grad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LR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ake down int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b0f0"/>
                </a:solidFill>
                <a:latin typeface="Arial"/>
              </a:rPr>
              <a:t>Component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GL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hart 7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5800" cy="5419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304920" y="228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LRS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Components </a:t>
            </a: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oks a Little Different in </a:t>
            </a:r>
            <a:r>
              <a:rPr b="0" lang="en-US" sz="8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8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ad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17:28Z</dcterms:created>
  <dc:creator>BSD501</dc:creator>
  <dc:description/>
  <dc:language>en-US</dc:language>
  <cp:lastModifiedBy>bsd501</cp:lastModifiedBy>
  <dcterms:modified xsi:type="dcterms:W3CDTF">2009-01-05T20:22:36Z</dcterms:modified>
  <cp:revision>19</cp:revision>
  <dc:subject/>
  <dc:title>Slide 1</dc:title>
</cp:coreProperties>
</file>